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983E8-C71D-4E37-8041-38A2705D9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D8014-1E3B-41F2-B66A-4BBAA071A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F82F3-5833-4160-9590-A2C45121C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208AC-B487-4295-953C-4E1B7D86F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BDF7E-4B1E-46E4-8624-7F638D5CA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5CC6E-6C5F-4CEB-8935-DF3C7C1FB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CF8F3-321F-4142-BD3C-FE47AF769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AC2F2-B386-4D95-B0CD-6D3B93BA1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C3208-7551-4585-A402-B23FB2DDF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9C740-9CEF-4541-93D1-245D406E1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B8C68-2053-44E8-84E9-09160C28D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E5692-23FE-4BEB-B498-3CD246501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F3365-1429-4E57-9CB0-B9BAFF5D215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ReqIF 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8T11:40:36Z</dcterms:created>
  <dc:creator>Michael Jastram</dc:creator>
  <dc:description/>
  <dc:language>en-US</dc:language>
  <cp:lastModifiedBy>Michael Jastram</cp:lastModifiedBy>
  <dcterms:modified xsi:type="dcterms:W3CDTF">2012-10-08T11:41:32Z</dcterms:modified>
  <cp:revision>1</cp:revision>
  <dc:subject/>
  <dc:title>ReqIF Test File</dc:title>
</cp:coreProperties>
</file>